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13.png" ContentType="image/png"/>
  <Override PartName="/ppt/media/image33.wmf" ContentType="image/x-wmf"/>
  <Override PartName="/ppt/media/image37.gif" ContentType="image/gif"/>
  <Override PartName="/ppt/media/image25.wmf" ContentType="image/x-wmf"/>
  <Override PartName="/ppt/media/image34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E6C-24F3-4BD8-8C87-AC64F17B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4CF-3721-4613-A36B-DF9A3904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D3E4C-EC7C-4D3C-A4E0-C75AE04C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6CB0D-B6B9-4D57-943F-32AE0B0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3DD16-8F96-4941-A354-5ED7195C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133F3-BB8F-49CA-B0EA-B33B4A9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7F76F-BF3A-491F-BDB6-FE3E0EC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7C2D7-F563-40A1-B03C-8B4CD9C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2A94-D502-4678-B13C-3DB8146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640D-82E9-4BEA-B2D3-DD8362D4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E58A8-BB98-494F-BE02-69269E43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81A08-4B21-4491-A1EC-C5CCA720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FC6-5A56-44C5-90E3-DDABB9AC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3ECB5-BC0C-4FB4-8219-D1ED638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7B532-BCE8-4C0E-8FAF-656AA3C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01CA-A560-42CB-8569-D423CF0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D17FF-E3C4-4E32-9402-54745C7B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070C-08FD-47E8-9CBE-DCE627F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A2943-3E1A-4DDB-BA83-6B80765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FB7AA-92C6-4A54-B447-C3C2226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79041-E223-4C7F-8C56-254C6DF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F3961-CFF6-4DAC-9F5E-1CA1B71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E45AC-A5D9-4459-BBF9-A99359BA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8E5-FF7A-4F21-9D1D-33091EC0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67421-16C0-41FA-89B0-CD8807FB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DA7B7-8D23-466B-BBC3-3B623B3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53BC-BDE4-404A-8D28-BFC3E73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63F99-1E00-4D58-AD84-E0BC43F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1B620-C663-4CA5-9AE7-F6C88C0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CE17-9F85-4907-93F5-F116709B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4C8DA-6446-441F-AC10-1CEE99E1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91A7C-7F81-40FA-806A-E222E0A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58BF-B67A-4EAE-B183-5C68258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312FD-2882-445E-9709-33168D4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557-32BD-464C-BF70-0069495F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4E44-4D0F-4BEF-B224-DCE9F559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27CEC-5A9B-45A1-94C1-5BF5F441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7F7A-303B-4AB6-B88F-4E5E8137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7421D-EDB4-4537-8639-7913602B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72F80-9C99-4C5D-BCAE-70B0D46A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E3311-114E-4732-AE76-90AC811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C875-2163-46B0-A29E-6571682A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A6E6E-1C79-472B-9AFF-456ABE9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D31FE-238C-4667-B427-F42A588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6A44F-38FD-4AA8-85CD-851EBCC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ACE7-1E99-434E-B707-70D66A34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A55D9-A2AD-42AD-8475-DDF0FC9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4A124-9E21-41F6-BEF3-7E996DF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784D1-A995-4270-A41D-68565D2B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AE70-639E-4234-8E3B-50C7A35B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7843F-AA1F-4167-A3F3-F97BB4F5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5F859-703B-4904-B105-BB625991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E3F92-9CAA-4865-8AD2-21396CD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C29D4-B3A4-4A4F-91A5-7172C289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80C74-28DE-4321-87A0-5FB78BC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72004-2C2F-48F1-AC58-835EE84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1A1-6BC0-48D8-95A1-8AD5308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E18F8-84C9-437B-918C-E664121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6613C-A1E1-40B9-AE4A-699E9E2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5CAF9-71DC-4507-B623-19CB8C2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2FC4D-944A-4100-8C9C-6900A02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9A807-876D-4C1B-BE9F-AD00C71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996E2-034C-4415-9EDF-BB868405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5E64B-80E6-4CA6-BCE3-2E6CC650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20D7F-F867-4ADB-A219-AE8D1BED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5B770-94CB-4036-908A-DA08F81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45011-A1F8-45AB-B245-90D08D4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A8E-116A-4AC0-88B6-522754D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A0FB0-680C-41AD-8299-603A0282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F4C84-522F-4B83-8CC1-DD36ACB7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86F29-C0F3-4975-84DB-8D5980A0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9DFF2-A31A-4862-9DC7-2F43C3D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3599E-4065-45E8-AA9F-EB60BFD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A4A59-9ADB-48A0-94DD-C724167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16834-1591-4B1B-B061-BD185A3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DFF84-C789-412B-8861-83C5E940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31791-F2F2-4828-8210-A49DD2C4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0CC4C-F05F-442B-A84C-477E97A8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12F7-869D-4337-9910-673E275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28854-749A-4AEC-9EDE-5796615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9B6C3-CE08-4FD9-865B-4E58695F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6F5E0-3D6F-4EE6-919F-8228F6E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3488F-C407-441D-A059-89544C4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32818-9ECF-4C4B-A74E-CE20045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E434A-2C2F-4BB9-A10B-929F8FE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546F2-2270-4731-81D7-8898E419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DC198-74D2-4ADE-87CF-B4DC3856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64C9D-D8BF-4E24-9828-CDE0C47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869A0-2BA6-4874-94AC-28E8864F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652C-30D8-4EB6-AC01-19CA47B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4159B-B9F2-4FA2-B581-017B736D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E7196-C04B-4E49-8190-DEA5B904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966E1-E44C-4762-9A45-DC3EA30A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ABEA2-5085-42DE-A708-D1B5050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6C2F3-AF9E-48A6-8704-91899262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915E3-BEEE-41C9-93F4-2C59FF3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655A8-72EC-4A40-AA56-4F93559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4203E-2871-4EED-B597-3528C1D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60342-F044-4B4D-AD7B-3CEEE02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1288B-96CC-4A20-8196-A7B0FC4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7772-F0B5-4006-A1AC-80F0364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80A2D-5CA1-43C2-995B-0F8F7C2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1A975-D2E6-45EF-A7C6-969E7FC1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36880-CF4D-4FD4-B2A8-1FC53994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97E45-AE91-4359-B64B-8B900599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985DD-F5EA-4019-B284-A5812F8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CD494-DCC1-4840-A27E-A44E61A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89D10-A5F6-4DF9-AAB6-6067EDB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A8F8E-45F5-4A7B-BF6C-1FC9751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13F6F-F063-46A4-97B4-58363AE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AAF4E-5661-4D62-A422-91C3806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6EE-8305-4D2D-8FA1-1287811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3BD-E894-4718-8B72-A5CCB90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3E179-F2E0-45EB-9CBC-A818D52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DEF82-CEB2-46C4-9ECD-456CCDA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F98EA-48D5-400C-BECF-2207178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2410B-9A43-4A6A-893B-17646625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7C643-8DE8-48DF-BC82-2B421E8F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AAF4B-8BC3-4573-979D-BBD07DB3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C964B-087A-4D19-A725-AF7FCB2E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0921D-0794-433E-81A3-4333B2F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DE25D-5EBB-4680-9F35-C9298429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A0785-0373-4298-8B18-5846F93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78ED-4171-47AC-832C-7C23F16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1CD7B-4411-41AA-8246-C2FA8B5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17DB9-6FB5-43BE-9603-59C6EC1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95F75-B2E5-457B-9927-A2E6A22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24F35-D59F-45A3-9728-F92738F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7FE81-BF5E-449B-8CB4-490D8EA8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4F8F7-10B2-4F92-A7AE-968CA69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01441-509B-4A65-9211-A1FF476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31A82-E331-4DDB-8E86-600D157F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97C0E-DB3B-4A2D-928C-95949DB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1D540-5492-4F81-9576-67AB228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49C9-6CD0-4E27-9565-03233D56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7A3E2-AD38-41DD-AAE7-DAA85881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C719A-F948-42B4-B29E-EA2DC08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36027-EA7A-40C6-B749-3A0F8F03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AC1BB-D3CD-431C-A389-32A2EC6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2FCDC-B229-401E-A029-0C134E4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DC426-0211-4DA8-8641-2C1E2CE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70F47-A25F-4BB7-9BCB-F6A154A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60EF7-75CE-4DAB-BBA5-56AAD16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C20ED-B7C5-40A3-9481-54D4B9A8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75A4C-60FF-4F9D-BF5C-7312414C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023C-D5E3-44DD-A83D-4EFF0F83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0F9FF-6955-4B3F-A883-A64C0D99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2AF19-9C31-44A8-81B2-4C1EB75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AAB38-A849-42F0-B188-6F160A41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F8476-3C8B-4859-BB43-D9FE140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6884F-321E-4A22-BF60-29D5B39A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3A854-323F-4346-A21C-9D447B3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2458E-56F3-4E86-9D70-BB3D15D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F649E-0151-43E4-B418-FBEC4B2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AB519-3057-4375-885E-49AB7BF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4BDCF-B12C-46F8-B02D-50883B8A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419-1008-4A6B-B524-0424AE04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C501F-BC0E-4498-981E-DDD8B486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F6102-CA80-43FF-A49D-8DDD21B9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277FE-613E-416C-BD0E-1BFF308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BA3C6-3603-401E-B1C6-835A740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B2DA7-401A-41C7-965C-A99F6703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0E545-C431-4B57-A896-4DCEA0C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1BD5F-ED52-4AF9-9C39-C8E2C7CA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C088E-FE38-41D6-8AA0-B620B08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616F3-888A-4B8B-A93E-89C983A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51A16-51FE-4281-9F78-BEEF434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FE04-1966-4B82-B947-969E4C11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F9898-0137-4EAA-A569-40DEB51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EC622F-910C-4AD0-8EC7-3485006A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4D8AA-849C-4D71-AC9F-E8C5A32F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3C6FD-5D08-48E9-8ACF-05E41D1E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1106FB-830E-413A-95B8-DE38B7F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FA7F8-9394-4E3E-B477-2808623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9B8321-EEB9-4B8F-AA8E-D063E91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B73CD-43AA-47B5-8459-F0D8E4B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877AFE-BC7A-4A21-92E0-DBAD9EF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EAC87-D1D0-4069-A8E1-54700C7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0E86-213B-4613-89E4-9C634074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0E5BF-F577-4927-AECE-083C6E5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F05A6-63E9-4EFA-99BA-E059A8C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3F1DDC-955D-4F0B-B8CD-B1AD7A9A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4903AB-04F6-4568-A646-4F82FBD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F1C033-9026-4815-B4C6-6ADACF9E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F467A-C80B-4F54-AF80-B565E053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73595-5136-4F2E-BF60-F13A6561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F44E7-0977-4B1E-A048-5401C7F2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7A8FF-A376-40C5-91EE-5F827C1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46B4E-787E-44E6-B080-650AD77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A9AC-35FA-44F4-8C1B-1FD833E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E36FC5-36D0-4C2F-B459-81B107E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03FB6-D077-4D20-BCE9-9517A0A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A7889-8A4D-4DDD-9E11-111B8AD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B71ACC-11B8-4987-8653-546368D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BD1C2-01D3-4AEB-92CD-1DBE71C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1CC2F-575A-4F23-B6BC-26AD14B7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49F85-FB61-4114-AEFF-0FDA6F6C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79D409-2942-4CB4-BB75-E18B4A51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DD0704-6D9D-4342-A896-3E68854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79E86-B9C0-46EB-86A6-64120D42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AC45-FDE6-48EE-8026-739F96FD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3F72F-EEC5-4173-857E-80A67E2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95008-9CCD-45C2-A214-6A486DF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1173C-C8C2-4F2C-BD69-D097C9F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9822BF-CF1F-46C5-ABE4-46C2993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1FED40-A8A5-4F30-8321-A09C4EA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7B8785-395C-49C4-91D4-A6F18CA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D37DCA-F043-4ED7-A22E-FD510B2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642D50-9985-468E-89F2-4B1D8843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4E6FF-27AE-42D9-B903-E45AA642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0C78959-882D-4569-B8C8-08211262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54F6-3A01-4E11-ABD9-4565198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5FA14F-FC04-48E6-BFC5-3CB4729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09AD43B-EB7C-4033-9FD5-1E0DC860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763D49-357D-4C81-8903-7CC6A73C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5E9E632-5003-4AD0-A924-2BCBA7C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853728A-C26A-4E81-BCAA-4FAA9CDB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39623E-B0DA-4DCA-80FC-7D73316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4CC889-7DFF-4AEC-9E75-D725B2C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78707B-2E8D-42D7-9882-B0E0C73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00520F-F921-4A44-B5C6-D294559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AC65123-64E0-4F6C-BDED-7335CEF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CE6-F5D5-43BD-9937-A9431C1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A633-0B03-4E14-94CB-C409FBB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F48DAD4-24F6-407C-B8B5-3754956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A7292F-C912-444B-B20A-2FE7891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948BE7-240A-4911-89F7-FDE3F21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4D6E8D-9DC0-4590-81BB-5A9C989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29B639-AC32-47D8-B3B7-2474459A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E011CD-5732-487D-B79D-8DE7817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41AF57-6F0E-4343-ABBD-6FCD58EE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B5025-4ED2-4DB9-A7DB-0D76544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020254-3CB4-4A98-B8CD-B4A0980D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E7BAE-4E43-4A8D-946D-06EF000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5311-4991-4672-8B8A-4A5F8D4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1287C7-8943-49A5-8A17-0C00F78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0FA7AE-8E3A-4D8D-8169-F8756FDF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C0B4CC-A820-4513-8E34-A7B8D9F5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83C5A-7E05-4307-9C95-4D5C4B19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36CE91-FD87-4444-9CAF-5F63470C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86B83-BC13-497D-BB08-394AA954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2AFBFE-18B1-4E85-94BB-AA091439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1DF3B8-2D70-4845-9D1B-DF9FE7F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181B07-DFCA-499A-85E3-37F949F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BD14F8-B535-4949-8F2E-EA94AD3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882D-1870-43BC-87AB-95E39E7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BFC8AA-594D-44A2-8338-2621996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796F20-CF44-495E-96C2-774CA63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10696C-FFDB-46E0-8CD5-8B27B570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2D2D24-97C0-4325-B4E4-72F280CD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28AAD7-60A0-4408-A7EC-1718CC1E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D2980B-6D12-41F1-A4BB-067B8FCB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CD617C-3387-4566-9930-7A8AED19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4D3CC0-4B9C-43B0-B23F-F5B2581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FC6218-AE2C-4DFC-A2DB-381D24A5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E8D1D-6C81-47C4-8176-1D058A5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CC8A-0648-451C-A621-067631DF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C90E8C-3B92-49EB-AF64-803A3468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A5D473-4E0D-474D-9977-9AC5681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410921-507D-440D-97EF-EBD80212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89BE58-1082-4193-BFC2-2737B5A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41F58A-A900-4C35-B76F-FC910E1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C75E69-37A7-49E5-AED6-C7FEB358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E47695-3A2F-4BA7-8701-13782AEA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7B84-A02E-408D-A33D-65D050C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5D98-9A6A-40D3-BCE1-CF6268BD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7034-DDB4-412E-8F89-F1BFFD7C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4ECB-3448-468D-A868-C0633EF5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8696-B739-4DB9-9267-E9408BE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009D-E8AA-4CFC-B592-EDAA7C98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2D5-C089-4BA0-9F69-6C9B1A9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C8F6-543A-408E-AD94-FB1103D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E40A-1368-4673-80EB-EC5AE90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8EAC-2370-444D-8C93-24BAC0BD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97AB-9498-4C27-838F-23ADB46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6B8B-5220-4891-A871-BF5E214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994A-2F61-4F93-A8E8-609FA8A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D7C6-6A08-48E6-A820-C6E7DB6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0ECE-8AF8-416F-AF51-C70447D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4346-3907-45E5-BBC4-20180EAA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00592-045E-4927-96A7-002BBF7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D0A-5181-4481-9017-291304E7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AF74-F703-450D-B1A8-E701534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D52D-FE7B-4C25-8770-0558DC4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6438-E346-4420-8C8C-6757F0B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31D3-7F83-43ED-9ABA-3756F1D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85F8-277F-4D43-ADD4-256E32D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031F-8328-459E-B77F-84AB390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B083-1E71-4695-BCB7-AD061CA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ADCF-F973-486A-B669-0671E9EC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9E1F-B21A-4599-AD52-B0A1186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4D27-9BF9-4BB5-9B2F-35D97E26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042-FABB-43EF-8585-D08A5ED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93582-091C-491B-9681-36B843B3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18A6-411D-498B-9D77-695A966D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8C1F-9176-4EE2-9E87-DCCE6574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CFA9-1268-487E-93D6-B6A4083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6DD6-D01B-4F5E-8CF8-C3B36E6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CEA2-69C3-4D00-8BF9-37566AAD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90D9-0102-40DD-9491-CD21AD43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855C-F668-4A08-875E-7CB35FE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79DEA-E9DC-4A5B-B1FB-6DFA665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5B2E-6BEE-4811-9D6E-6F5E94C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C6D-D32B-400C-8F4C-6DFECE6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2D14-DD19-4127-9B23-11B7A2E8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67F33-DC83-4981-AA72-C6D02C36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9FE5-3397-42D9-9092-F5827E35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5433-5278-437F-AA09-0F5E4DBA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252D-2E08-4C6A-A3F7-D183763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A4B8-E8F2-44DC-A41C-0AA5BD3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03DF-F4BB-4FD7-B6AC-0B42320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8C2C-2AC9-4102-8873-0B01E73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FCA7-E04B-4BEE-AD6B-3A7034BE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2B24-EB92-483D-BCA2-21E12E2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303-3FBF-4829-A850-DDF915A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9DBF-F16C-4D20-8593-9C81051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CFCD-7243-462D-A184-E7E0F22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752B-7400-4BE4-9612-4FA3278C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A26C-C6E0-49F4-9BED-B8B2B5F4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F0B8-EE6E-464C-8CCF-455A9764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734F-8EA4-4C90-956E-91689503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60D7-FA77-4E1A-85EE-7E2FCA7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68C43-5BA9-491A-9A74-B1A6551F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4ECEC-343C-4655-B6B6-511AD17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8FDC9-8BDF-4CE5-9D89-CDC3594E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7C3-6EAC-42B8-836D-FB31B40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A4069-1A3C-42DD-A685-C660830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7DD5-496C-4FA9-ADAD-6BFAEAE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A0AF3-3CAD-4E47-AC97-8453C4A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F750-29D8-40FC-83A9-8FEA63B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50FF7-A9A5-442A-9A82-A91B73C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B8E5-4F50-40D1-844D-CEA636FD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6DA9-D570-4800-8930-861B917B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EE5A2-0D91-40C5-A6D8-6DEA4E4A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C437A-7436-43C3-9793-5609AB5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00592-84B5-4EF9-AA87-8F99C920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4E8-007A-4DFE-93F9-F5B47792BB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DD1-6BA2-4183-8929-1F697EAC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E29-D6B6-4C00-95A0-90CB7E03D2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707A-94A0-4B46-9FE8-31B3CECC8E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B91D-11E4-4CC2-83C3-D5DCF5262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5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D81-588F-41F9-80CE-ABC8F30BBE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32B-E232-473C-8700-C1FF8E53C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D1F-8DA2-4D44-A9FD-0BCBDAA3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A13-ED25-452F-9961-78164834CE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F2D-3654-421E-AAC6-4F7042BC29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7C5-3942-42A6-8E87-94DEC07026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6373-2588-4EAD-80EF-40DAEF21A1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658-ED1E-4769-A1DD-03EABD31E0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CE6-768A-447D-99E5-25BF68288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9C3C-5FEC-4DFC-9082-E7B430830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3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41B9-A434-4B1D-8727-4AA4EF6DF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B26A-FDBB-44DA-920B-CB5CF839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9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3FBC-128C-48CE-83D0-C2D108A3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ftr" idx="7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b18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15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4CE1-75BA-4623-AC74-31A82140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24C-B62B-46BB-909D-F23CFE4F7E1E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6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6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6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6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5B15-DBE0-4BD6-BAA3-5E55104D5732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259-BBD1-4A11-852E-639577C74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AAB-54A8-4868-8F9A-C17F7C91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2209-DEEF-406D-AD0A-936659FF2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08B-37F8-4C02-B19F-FA4DDD543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2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CD69-757B-4D94-969D-9245D2DE5A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AF8-AA63-43DA-BB4D-D0215F988F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7C84-E81D-4D0D-A6CD-F4FB311A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gif"/><Relationship Id="rId6" Type="http://schemas.openxmlformats.org/officeDocument/2006/relationships/image" Target="../media/image38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gi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А нужна ли на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910960" y="1676160"/>
            <a:ext cx="34801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Семья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cc33"/>
                </a:solidFill>
                <a:latin typeface="Tahoma"/>
              </a:rPr>
              <a:t>А если у тебя есть семья</a:t>
            </a:r>
            <a:r>
              <a:rPr b="0" lang="en-US" sz="72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42ec"/>
                </a:solidFill>
                <a:latin typeface="Arial"/>
              </a:rPr>
              <a:t>Ты можешь добиться того же ,что и без семьи, но придя домой ты заметишь</a:t>
            </a:r>
            <a:r>
              <a:rPr b="0" lang="en-US" sz="5400" spc="-1" strike="noStrike">
                <a:solidFill>
                  <a:srgbClr val="7f42e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2790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2791" name="" descr=""/>
          <p:cNvPicPr/>
          <p:nvPr/>
        </p:nvPicPr>
        <p:blipFill>
          <a:blip r:embed="rId4"/>
          <a:stretch/>
        </p:blipFill>
        <p:spPr>
          <a:xfrm>
            <a:off x="6705720" y="5335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2792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979640" cy="2361960"/>
          </a:xfrm>
          <a:prstGeom prst="rect">
            <a:avLst/>
          </a:prstGeom>
          <a:ln w="0">
            <a:noFill/>
          </a:ln>
        </p:spPr>
      </p:pic>
      <p:pic>
        <p:nvPicPr>
          <p:cNvPr id="2793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794" name="" descr=""/>
          <p:cNvPicPr/>
          <p:nvPr/>
        </p:nvPicPr>
        <p:blipFill>
          <a:blip r:embed="rId7"/>
          <a:stretch/>
        </p:blipFill>
        <p:spPr>
          <a:xfrm>
            <a:off x="6400800" y="3733920"/>
            <a:ext cx="2209680" cy="181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Arial"/>
              </a:rPr>
              <a:t>А еще у тебя могут быть дети</a:t>
            </a: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96" name="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И ты поймешь ,что твоя жизнь прожита не зр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7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bb4eb"/>
                </a:solidFill>
                <a:latin typeface="Garamond"/>
              </a:rPr>
              <a:t>В любой момент тебе могут помочь!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 Black"/>
              </a:rPr>
              <a:t>Теперь ты можешь наслаждаться жизнью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Arial Black"/>
              </a:rPr>
              <a:t>Семья – это ячейка общества. Создай свою и живи спокойно!</a:t>
            </a: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   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666699"/>
                </a:solidFill>
                <a:latin typeface="Arial Unicode MS"/>
              </a:rPr>
              <a:t>Что ты оставишь после себя</a:t>
            </a:r>
            <a:r>
              <a:rPr b="0" lang="en-US" sz="7700" spc="-1" strike="noStrike">
                <a:solidFill>
                  <a:srgbClr val="666699"/>
                </a:solidFill>
                <a:latin typeface="Arial Unicode MS"/>
              </a:rPr>
              <a:t>?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65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 rot="727200">
            <a:off x="1600200" y="9907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Разруху и ужас</a:t>
            </a:r>
            <a:r>
              <a:rPr b="0" lang="en-US" sz="66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7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1825920" cy="14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417"/>
                </a:solidFill>
                <a:latin typeface="Arial"/>
              </a:rPr>
              <a:t>Или жизнь и процветание</a:t>
            </a:r>
            <a:r>
              <a:rPr b="0" lang="en-US" sz="4400" spc="-1" strike="noStrike">
                <a:solidFill>
                  <a:srgbClr val="d3441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176076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2666880" cy="176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bbbf"/>
                </a:solidFill>
                <a:latin typeface="Arial"/>
              </a:rPr>
              <a:t>Мы знаем ,что без семьи ты можешь стат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781280" cy="2209680"/>
          </a:xfrm>
          <a:prstGeom prst="rect">
            <a:avLst/>
          </a:prstGeom>
          <a:ln w="0">
            <a:noFill/>
          </a:ln>
        </p:spPr>
      </p:pic>
      <p:pic>
        <p:nvPicPr>
          <p:cNvPr id="2774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75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1889280" cy="1917720"/>
          </a:xfrm>
          <a:prstGeom prst="rect">
            <a:avLst/>
          </a:prstGeom>
          <a:ln w="0">
            <a:noFill/>
          </a:ln>
        </p:spPr>
      </p:pic>
      <p:pic>
        <p:nvPicPr>
          <p:cNvPr id="2776" name="" descr=""/>
          <p:cNvPicPr/>
          <p:nvPr/>
        </p:nvPicPr>
        <p:blipFill>
          <a:blip r:embed="rId4"/>
          <a:stretch/>
        </p:blipFill>
        <p:spPr>
          <a:xfrm>
            <a:off x="914400" y="37339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2777" name="" descr=""/>
          <p:cNvPicPr/>
          <p:nvPr/>
        </p:nvPicPr>
        <p:blipFill>
          <a:blip r:embed="rId5"/>
          <a:stretch/>
        </p:blipFill>
        <p:spPr>
          <a:xfrm>
            <a:off x="3505320" y="914400"/>
            <a:ext cx="1904760" cy="1436760"/>
          </a:xfrm>
          <a:prstGeom prst="rect">
            <a:avLst/>
          </a:prstGeom>
          <a:ln w="0">
            <a:noFill/>
          </a:ln>
        </p:spPr>
      </p:pic>
      <p:pic>
        <p:nvPicPr>
          <p:cNvPr id="2778" name="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1807920" cy="191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151b8"/>
                </a:solidFill>
                <a:latin typeface="Arial"/>
              </a:rPr>
              <a:t>В общем очень успешным человеком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о кто будет ждать тебя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2782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2783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319120" cy="2260440"/>
          </a:xfrm>
          <a:prstGeom prst="rect">
            <a:avLst/>
          </a:prstGeom>
          <a:ln w="0">
            <a:noFill/>
          </a:ln>
        </p:spPr>
      </p:pic>
      <p:pic>
        <p:nvPicPr>
          <p:cNvPr id="2784" name="" descr=""/>
          <p:cNvPicPr/>
          <p:nvPr/>
        </p:nvPicPr>
        <p:blipFill>
          <a:blip r:embed="rId4"/>
          <a:stretch/>
        </p:blipFill>
        <p:spPr>
          <a:xfrm>
            <a:off x="6862680" y="46188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278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арин</cp:lastModifiedBy>
  <dcterms:modified xsi:type="dcterms:W3CDTF">2008-11-18T07:4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