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955-73F4-4F3B-A2BC-C0E08355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184-0313-456B-9CFE-B4FA298D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B7E-91B6-4302-94F3-35F9340A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05B-F8A5-4DA7-9024-2903AB81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6FE-3363-4D41-A69F-8A511732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A55C-12AF-40C7-B469-5B94C719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44FF-0FE5-4D0E-B612-A54C5774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D57C-E4EA-483B-82C9-DEC421CF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B8C-0757-40DC-9DC4-1846066C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DFB7-90CD-4430-B239-CA9558E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A5EB-3C8E-4875-8AB7-B91D83C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1E7-0C5B-4347-86AA-99F56AEF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81A6-A458-4BA6-A277-59C1B2C9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0340-8D85-4A37-A1E3-ECB685D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F43C-BB52-4668-AC86-E118FD14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DB49-A1D8-45F2-96B8-D465C4DC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EC4-2AD9-4721-A02B-4BECA922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F66-2B92-4356-8B66-05CAE77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D07-C1E1-4118-8139-8D1C7E9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B29-D931-4D8E-8812-EC589FA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05A-AEC5-41E0-A6D7-29EBB8A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0E1-29FB-4CA3-AE02-9E02621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5E9-993E-421A-BAB8-4F284AF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430-2344-4ED5-A7DC-5952EB7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1468-4C33-422F-AADB-EDBF7A4A9D8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E3F-0FC6-49AB-89B2-54FE1CBCA7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20840" y="853920"/>
            <a:ext cx="8399160" cy="2413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4" descr="semya11.jpg"/>
          <p:cNvPicPr/>
          <p:nvPr/>
        </p:nvPicPr>
        <p:blipFill>
          <a:blip r:embed="rId3"/>
          <a:stretch/>
        </p:blipFill>
        <p:spPr>
          <a:xfrm>
            <a:off x="476280" y="3067200"/>
            <a:ext cx="3906720" cy="2936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15 мая является самым важны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днем в нашей жизни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Международным Днем Семь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7072200" y="2786040"/>
            <a:ext cx="185760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cut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 появилось слово семь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-то о нем не слыхала 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Но Еве сказал перед свадьбой Ад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Сейчас я тебе 7 вопросов зад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то деток родит мне, богиня моя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И Ева тихонько ответила: «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Кто платье сошьет, постирает бел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Меня приласкает, украсит жил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Ответь на вопросы, подруга моя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Я,Я,Я – Ева молвила, - 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Сказала она знаменитых 7 «Я»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3" descr="55166351.jpg"/>
          <p:cNvPicPr/>
          <p:nvPr/>
        </p:nvPicPr>
        <p:blipFill>
          <a:blip r:embed="rId2"/>
          <a:stretch/>
        </p:blipFill>
        <p:spPr>
          <a:xfrm>
            <a:off x="285840" y="4675320"/>
            <a:ext cx="2214360" cy="1611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Семья – это то, что с                                 тобою рядом всегд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И пусть стремительно       мчатся года, но дом родно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родные стены навсег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останутся в твоем сердц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55296457.jpg"/>
          <p:cNvPicPr/>
          <p:nvPr/>
        </p:nvPicPr>
        <p:blipFill>
          <a:blip r:embed="rId1"/>
          <a:stretch/>
        </p:blipFill>
        <p:spPr>
          <a:xfrm>
            <a:off x="357120" y="192888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ef0f7"/>
                </a:solidFill>
                <a:latin typeface="Arial"/>
              </a:rPr>
              <a:t>Семья</a:t>
            </a:r>
            <a:endParaRPr b="0" lang="en-US" sz="7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это то, что делим на все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сем понемножку и в слезы, и  в см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злет и падение, радость, печал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Дружбу и ссоры, молчание, печ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55200370.jpg"/>
          <p:cNvPicPr/>
          <p:nvPr/>
        </p:nvPicPr>
        <p:blipFill>
          <a:blip r:embed="rId1"/>
          <a:stretch/>
        </p:blipFill>
        <p:spPr>
          <a:xfrm>
            <a:off x="5248440" y="347760"/>
            <a:ext cx="3305160" cy="297504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   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У каждого человека должен быть свой дом,        и не просто крыша над голово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его любят и ждут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понимают и принимаю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таким, какой он есть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место, где его семь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4" descr="55344822.jpg"/>
          <p:cNvPicPr/>
          <p:nvPr/>
        </p:nvPicPr>
        <p:blipFill>
          <a:blip r:embed="rId1"/>
          <a:stretch/>
        </p:blipFill>
        <p:spPr>
          <a:xfrm>
            <a:off x="176040" y="2451240"/>
            <a:ext cx="2975040" cy="3840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4f271c"/>
                </a:solidFill>
                <a:latin typeface="Arial"/>
              </a:rPr>
              <a:t>А родные стены строятся на: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928800" y="193032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643120" y="1930320"/>
            <a:ext cx="171468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643120" y="2502000"/>
            <a:ext cx="235764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жлив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928800" y="250200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643120" y="3073680"/>
            <a:ext cx="164304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ж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928800" y="3073680"/>
            <a:ext cx="17143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286160" y="3073680"/>
            <a:ext cx="33577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поним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ll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из стен растут дома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потом и моя маленькая стр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3" descr="semya11.jpg"/>
          <p:cNvPicPr/>
          <p:nvPr/>
        </p:nvPicPr>
        <p:blipFill>
          <a:blip r:embed="rId2"/>
          <a:stretch/>
        </p:blipFill>
        <p:spPr>
          <a:xfrm>
            <a:off x="3090960" y="3413160"/>
            <a:ext cx="4230720" cy="27496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2:56Z</dcterms:created>
  <dc:creator>Your User Name</dc:creator>
  <dc:description/>
  <dc:language>en-US</dc:language>
  <cp:lastModifiedBy>Your User Name</cp:lastModifiedBy>
  <dcterms:modified xsi:type="dcterms:W3CDTF">2008-11-17T22:53:04Z</dcterms:modified>
  <cp:revision>5</cp:revision>
  <dc:subject/>
  <dc:title>Слайд 1</dc:title>
</cp:coreProperties>
</file>