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12.png" ContentType="image/pn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9C28-C666-4136-B2DB-0D63C14AB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9B32-A47B-459E-8665-DD2DAAB9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6EA0-A1BB-4153-8410-CAD10DB14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DC79-B2FA-42BC-B7FA-89384A9AD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8FD5-38FC-412A-881E-AAF063979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472B0-BD36-4A50-9ABE-08511912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96DAF-3A9B-4ECF-BB91-B881A1CA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A099-AE8A-4054-AF64-6D47178D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52AD-C54B-4E96-866A-B7061B61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E175-0E4A-432D-A67F-7C4F1FA6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D1E6D-2893-4A8A-9935-3879C28D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BE54-1D9B-4FE7-812B-999B40B6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2A32-0765-4BDD-9701-13DEC057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8154-70CB-462A-82DD-C16E4342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13EB-FD07-452A-9F4A-E16782EF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7A3FA-1021-46E8-AFAC-A8683F6F8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C3528-887C-49C7-9D66-555E1D0A4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021C-8758-4E12-8164-27945BFA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0F6A-5809-4B8F-8893-821B2BB7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A801-F5AB-42E3-89B7-19D1B7D4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0188-EEA7-4525-9F73-CCFC936B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516C-0378-4C6F-AA21-6E259A29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1AA0-194B-4876-AA4D-DFD714A9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0721-9FD6-465F-8EEF-D690FB8B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FD24-D8C2-4FBD-ADFB-37B08F2F73C7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5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1C9A-A976-447F-8914-EE07BE2C5B5C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7"/>
          <p:cNvSpPr txBox="1"/>
          <p:nvPr/>
        </p:nvSpPr>
        <p:spPr>
          <a:xfrm>
            <a:off x="900000" y="1989000"/>
            <a:ext cx="748692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f8f8f8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Здоровье и наркотики»</a:t>
            </a:r>
            <a:endParaRPr b="0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f8f8f8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2b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415280" cy="6490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WordArt 8"/>
          <p:cNvSpPr txBox="1"/>
          <p:nvPr/>
        </p:nvSpPr>
        <p:spPr>
          <a:xfrm>
            <a:off x="684360" y="404640"/>
            <a:ext cx="302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Здоровь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</p:txBody>
      </p:sp>
      <p:sp>
        <p:nvSpPr>
          <p:cNvPr id="113" name="WordArt 9"/>
          <p:cNvSpPr txBox="1"/>
          <p:nvPr/>
        </p:nvSpPr>
        <p:spPr>
          <a:xfrm>
            <a:off x="5867280" y="404640"/>
            <a:ext cx="237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Болезн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</p:txBody>
      </p:sp>
      <p:pic>
        <p:nvPicPr>
          <p:cNvPr id="114" name="Picture 13" descr="J0282741"/>
          <p:cNvPicPr/>
          <p:nvPr/>
        </p:nvPicPr>
        <p:blipFill>
          <a:blip r:embed="rId1"/>
          <a:stretch/>
        </p:blipFill>
        <p:spPr>
          <a:xfrm>
            <a:off x="6588000" y="4076640"/>
            <a:ext cx="897120" cy="897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J0223734"/>
          <p:cNvPicPr/>
          <p:nvPr/>
        </p:nvPicPr>
        <p:blipFill>
          <a:blip r:embed="rId2"/>
          <a:stretch/>
        </p:blipFill>
        <p:spPr>
          <a:xfrm>
            <a:off x="1476360" y="5445000"/>
            <a:ext cx="1728720" cy="1036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5" descr="J0223737"/>
          <p:cNvPicPr/>
          <p:nvPr/>
        </p:nvPicPr>
        <p:blipFill>
          <a:blip r:embed="rId3"/>
          <a:stretch/>
        </p:blipFill>
        <p:spPr>
          <a:xfrm>
            <a:off x="7380360" y="5229360"/>
            <a:ext cx="1371600" cy="1038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J0178108"/>
          <p:cNvPicPr/>
          <p:nvPr/>
        </p:nvPicPr>
        <p:blipFill>
          <a:blip r:embed="rId4"/>
          <a:stretch/>
        </p:blipFill>
        <p:spPr>
          <a:xfrm>
            <a:off x="468360" y="4508640"/>
            <a:ext cx="1019160" cy="1152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0" descr="12[1]"/>
          <p:cNvPicPr/>
          <p:nvPr/>
        </p:nvPicPr>
        <p:blipFill>
          <a:blip r:embed="rId5"/>
          <a:stretch/>
        </p:blipFill>
        <p:spPr>
          <a:xfrm>
            <a:off x="7885080" y="3716280"/>
            <a:ext cx="792360" cy="528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2" descr="J0236462"/>
          <p:cNvPicPr/>
          <p:nvPr/>
        </p:nvPicPr>
        <p:blipFill>
          <a:blip r:embed="rId6"/>
          <a:stretch/>
        </p:blipFill>
        <p:spPr>
          <a:xfrm>
            <a:off x="900000" y="306864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20" name="WordArt 24"/>
          <p:cNvSpPr txBox="1"/>
          <p:nvPr/>
        </p:nvSpPr>
        <p:spPr>
          <a:xfrm>
            <a:off x="2050920" y="2205000"/>
            <a:ext cx="511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Ассоциац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</p:txBody>
      </p:sp>
      <p:sp>
        <p:nvSpPr>
          <p:cNvPr id="121" name="Line 25"/>
          <p:cNvSpPr/>
          <p:nvPr/>
        </p:nvSpPr>
        <p:spPr>
          <a:xfrm flipH="1">
            <a:off x="2700000" y="3141720"/>
            <a:ext cx="934920" cy="1150920"/>
          </a:xfrm>
          <a:prstGeom prst="line">
            <a:avLst/>
          </a:prstGeom>
          <a:ln w="6048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Line 26"/>
          <p:cNvSpPr/>
          <p:nvPr/>
        </p:nvSpPr>
        <p:spPr>
          <a:xfrm>
            <a:off x="5292720" y="3213000"/>
            <a:ext cx="1079640" cy="1152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Freeform 29"/>
          <p:cNvSpPr/>
          <p:nvPr/>
        </p:nvSpPr>
        <p:spPr>
          <a:xfrm>
            <a:off x="4332240" y="3068640"/>
            <a:ext cx="347760" cy="3300480"/>
          </a:xfrm>
          <a:prstGeom prst="pie">
            <a:avLst/>
          </a:pr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24" name="Picture 30" descr="7[1]"/>
          <p:cNvPicPr/>
          <p:nvPr/>
        </p:nvPicPr>
        <p:blipFill>
          <a:blip r:embed="rId7"/>
          <a:stretch/>
        </p:blipFill>
        <p:spPr>
          <a:xfrm rot="5400000">
            <a:off x="2054160" y="1625400"/>
            <a:ext cx="952560" cy="238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1" descr="7[1]"/>
          <p:cNvPicPr/>
          <p:nvPr/>
        </p:nvPicPr>
        <p:blipFill>
          <a:blip r:embed="rId8"/>
          <a:stretch/>
        </p:blipFill>
        <p:spPr>
          <a:xfrm rot="5400000">
            <a:off x="6156000" y="1628640"/>
            <a:ext cx="1152360" cy="2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500"/>
                            </p:stCondLst>
                            <p:childTnLst>
                              <p:par>
                                <p:cTn id="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500"/>
                            </p:stCondLst>
                            <p:childTnLst>
                              <p:par>
                                <p:cTn id="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500"/>
                            </p:stCondLst>
                            <p:childTnLst>
                              <p:par>
                                <p:cTn id="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500"/>
                            </p:stCondLst>
                            <p:childTnLst>
                              <p:par>
                                <p:cTn id="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2b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Здоров буду и денег добуду</a:t>
            </a:r>
            <a:br>
              <a:rPr sz="2800"/>
            </a:b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Здоровье дороже денег</a:t>
            </a:r>
            <a:br>
              <a:rPr sz="2800"/>
            </a:b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В здоровом теле - здоровый дух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Чистота - залог здоровья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Без болезни и здоровью не рад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Береги платье снову, а здоровье смолоду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WordArt 4"/>
          <p:cNvSpPr txBox="1"/>
          <p:nvPr/>
        </p:nvSpPr>
        <p:spPr>
          <a:xfrm>
            <a:off x="971640" y="260280"/>
            <a:ext cx="7056360" cy="149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Пословицы и поговорк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о здоровь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2b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67840" cy="8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Зависимость от наркотиков- болезн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Oval 4"/>
          <p:cNvSpPr/>
          <p:nvPr/>
        </p:nvSpPr>
        <p:spPr>
          <a:xfrm>
            <a:off x="324000" y="3500280"/>
            <a:ext cx="3311280" cy="2016360"/>
          </a:xfrm>
          <a:prstGeom prst="ellipse">
            <a:avLst/>
          </a:prstGeom>
          <a:solidFill>
            <a:srgbClr val="6699ff">
              <a:alpha val="41000"/>
            </a:srgbClr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Georgia"/>
              </a:rPr>
              <a:t>Эйфория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f8f8f8"/>
                </a:solidFill>
                <a:latin typeface="Georgia"/>
              </a:rPr>
              <a:t>и удовольствие</a:t>
            </a: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684360" y="1341360"/>
            <a:ext cx="3095640" cy="1150920"/>
          </a:xfrm>
          <a:prstGeom prst="rect">
            <a:avLst/>
          </a:prstGeom>
          <a:solidFill>
            <a:srgbClr val="6699ff">
              <a:alpha val="41000"/>
            </a:srgbClr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Georgia"/>
              </a:rPr>
              <a:t>Сначала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31" name="Picture 6" descr="2"/>
          <p:cNvPicPr/>
          <p:nvPr/>
        </p:nvPicPr>
        <p:blipFill>
          <a:blip r:embed="rId1"/>
          <a:stretch/>
        </p:blipFill>
        <p:spPr>
          <a:xfrm rot="2868600">
            <a:off x="1204200" y="2908080"/>
            <a:ext cx="1371600" cy="685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2"/>
          <p:cNvPicPr/>
          <p:nvPr/>
        </p:nvPicPr>
        <p:blipFill>
          <a:blip r:embed="rId2"/>
          <a:stretch/>
        </p:blipFill>
        <p:spPr>
          <a:xfrm rot="19903200">
            <a:off x="3347640" y="3499920"/>
            <a:ext cx="1371600" cy="68580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8"/>
          <p:cNvSpPr/>
          <p:nvPr/>
        </p:nvSpPr>
        <p:spPr>
          <a:xfrm>
            <a:off x="4140360" y="1197000"/>
            <a:ext cx="5003640" cy="4464000"/>
          </a:xfrm>
          <a:custGeom>
            <a:avLst/>
            <a:gdLst>
              <a:gd name="textAreaLeft" fmla="*/ 1142280 w 5003640"/>
              <a:gd name="textAreaRight" fmla="*/ 3861360 w 5003640"/>
              <a:gd name="textAreaTop" fmla="*/ 1018800 h 4464000"/>
              <a:gd name="textAreaBottom" fmla="*/ 3445200 h 446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66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страшный удар</a:t>
            </a: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34" name="Picture 11" descr="60"/>
          <p:cNvPicPr/>
          <p:nvPr/>
        </p:nvPicPr>
        <p:blipFill>
          <a:blip r:embed="rId3"/>
          <a:stretch/>
        </p:blipFill>
        <p:spPr>
          <a:xfrm>
            <a:off x="6227640" y="3860640"/>
            <a:ext cx="17240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2b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440" y="2205000"/>
            <a:ext cx="80629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Georgia"/>
              </a:rPr>
              <a:t>крайнее истощение организма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Georgia"/>
              </a:rPr>
              <a:t>значительная потеря массы тела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Georgia"/>
              </a:rPr>
              <a:t>упадок физических сил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Georgia"/>
              </a:rPr>
              <a:t>самая распространенная болезнь среди наркоманов - гепатит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Georgia"/>
              </a:rPr>
              <a:t>СПИД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6" name="WordArt 4"/>
          <p:cNvSpPr txBox="1"/>
          <p:nvPr/>
        </p:nvSpPr>
        <p:spPr>
          <a:xfrm>
            <a:off x="539640" y="476280"/>
            <a:ext cx="8353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Последствия употребления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наркотиков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2b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206028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Georgia"/>
              </a:rPr>
              <a:t>   </a:t>
            </a:r>
            <a:r>
              <a:rPr b="1" lang="ru-RU" sz="2800" spc="-1" strike="noStrike">
                <a:solidFill>
                  <a:srgbClr val="f8f8f8"/>
                </a:solidFill>
                <a:latin typeface="Georgia"/>
              </a:rPr>
              <a:t>У наркомана пропадают не только социальные рефлексы, но и инстинкт самосохранения и моральная устойчивость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f8f8f8"/>
                </a:solidFill>
                <a:latin typeface="Georgia"/>
              </a:rPr>
              <a:t>Появляется полное безразличие к окружению, умственное отупение и снижение интеллекта. Человек становится примитивно эгоистичен.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8" name="WordArt 5"/>
          <p:cNvSpPr txBox="1"/>
          <p:nvPr/>
        </p:nvSpPr>
        <p:spPr>
          <a:xfrm>
            <a:off x="539640" y="476280"/>
            <a:ext cx="7848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Последствия употребления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наркотиков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2b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Статистик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Georgia"/>
              </a:rPr>
              <a:t>Из 1500 зарегистрированных наркоманов, которые умерли в 1997 году, больше 1000 скончались от передозировки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Georgia"/>
              </a:rPr>
              <a:t>За последний год количество ВИЧ-инфецированных увеличилось в ШЕСТЬ раз. 80% из числа вновь заразившихся составляют наркоманы.</a:t>
            </a: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2b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4000" y="2205000"/>
            <a:ext cx="806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Georgia"/>
              </a:rPr>
              <a:t>Неполноценные дети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f8f8f8"/>
                </a:solidFill>
                <a:latin typeface="Georgia"/>
              </a:rPr>
              <a:t>Снижение генофонда и вымирание нации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6699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Georgia"/>
              </a:rPr>
              <a:t> </a:t>
            </a:r>
            <a:r>
              <a:rPr b="1" lang="ru-RU" sz="4000" spc="-1" strike="noStrike">
                <a:solidFill>
                  <a:srgbClr val="f8f8f8"/>
                </a:solidFill>
                <a:latin typeface="Georgia"/>
              </a:rPr>
              <a:t>А  это  – вопрос безопасности страны!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2" name="WordArt 4"/>
          <p:cNvSpPr txBox="1"/>
          <p:nvPr/>
        </p:nvSpPr>
        <p:spPr>
          <a:xfrm>
            <a:off x="468360" y="404640"/>
            <a:ext cx="828180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Что же ждет нашу страну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если не остановить эту беду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43" name="Picture 8" descr="J0234760"/>
          <p:cNvPicPr/>
          <p:nvPr/>
        </p:nvPicPr>
        <p:blipFill>
          <a:blip r:embed="rId1"/>
          <a:stretch/>
        </p:blipFill>
        <p:spPr>
          <a:xfrm>
            <a:off x="7667640" y="5300640"/>
            <a:ext cx="99072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3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6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2b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7" descr="Рисунок93"/>
          <p:cNvPicPr/>
          <p:nvPr/>
        </p:nvPicPr>
        <p:blipFill>
          <a:blip r:embed="rId1"/>
          <a:stretch/>
        </p:blipFill>
        <p:spPr>
          <a:xfrm>
            <a:off x="611280" y="5084640"/>
            <a:ext cx="798480" cy="1447920"/>
          </a:xfrm>
          <a:prstGeom prst="rect">
            <a:avLst/>
          </a:prstGeom>
          <a:ln w="0">
            <a:noFill/>
          </a:ln>
        </p:spPr>
      </p:pic>
      <p:sp>
        <p:nvSpPr>
          <p:cNvPr id="145" name="WordArt 8"/>
          <p:cNvSpPr txBox="1"/>
          <p:nvPr/>
        </p:nvSpPr>
        <p:spPr>
          <a:xfrm>
            <a:off x="1000080" y="1214280"/>
            <a:ext cx="7416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Здоровье - это не все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но все без здоровья - ничто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85800" y="1295280"/>
            <a:ext cx="7772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1T16:46:36Z</dcterms:created>
  <dc:creator>Dom</dc:creator>
  <dc:description/>
  <dc:language>en-US</dc:language>
  <cp:lastModifiedBy>inform_2</cp:lastModifiedBy>
  <dcterms:modified xsi:type="dcterms:W3CDTF">2010-04-06T04:38:51Z</dcterms:modified>
  <cp:revision>28</cp:revision>
  <dc:subject/>
  <dc:title>Слайд 1</dc:title>
</cp:coreProperties>
</file>